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1145-5A90-405C-B37B-A2C0B8987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F1E0-9A0E-4313-A077-184CC55A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B6FB-6D63-4174-B3DC-901EC204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186F-357F-4E34-A873-F8250B65D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84CF-5B6E-4894-B4F1-B5DA26F8A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B35F-E0E2-480B-B091-84F6E0FE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A469-20A4-4872-A185-74A45EFF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5BAA-AEC9-4C68-A056-01DAB715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B535-2820-474C-BE43-8065BAFF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6F60-3C9A-4306-994F-2930BB05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761F-677A-443B-9FEB-4061C706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EE6E-6D8E-4DFA-8549-382723E2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BA00-C325-46AE-A1D6-0F746629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0C23-E117-476A-AC54-0A36089C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C05A-83DC-408C-8FC3-5FE91A3B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5733-02D7-47CC-8F27-99EAF6C0F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4AE3-1DA3-49B4-8EA1-3A3D76295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CA50-BD49-4D9C-B3ED-ABA2769A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9E3E-ECA7-4CBE-81FE-486EBD7B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0662-4626-42EE-B13F-C6AD2E17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1272-9610-4642-8720-10210464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49F3-AC86-458E-A46B-5A7B6931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8677-810E-41D8-8885-3DEC37B8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F37F-503C-4CB4-89B5-52C5A45C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4692-0300-4C93-A617-4C112FB848A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DD58-0D5F-4384-919C-EF248398474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Battle of Midwa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y: Richard Niemczy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Battle of Midway Background Info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Why) On Dec. 7, 1941, Japan attacked Pearl Harbor and that led the U.S. join the wa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n June 4, 1942, America had a fleet of ships heading to Japa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When/Where) On June 4, 1942, Japan had counter attacked the United States last remaining carriers ships, on a small island called Midway on the Pacific Ocea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war had lasted from June 4-6, 1942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ne of the major United States ship carrier the USS Yorktown was bombed by 3 Japanese bomber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United States had Defeated the Japanes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s changed the war by further invasions from the Japanes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s caused a plan of island hoping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Battle of Midway Map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5162400" cy="52437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519280" y="6324480"/>
            <a:ext cx="3608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http://www.navy.mil/navydata/cno/n87/usw/issue_11/images/map1.jp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Battle of Midway Commander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nited Stat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hester W. Nimitz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rank J. Fletc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aymond A. Spruan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mpire of Jap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amamoto Isorok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agumo Chuich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amaguchi Tan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yusaku Yanagimot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Kondo Nobutak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257800" y="3809880"/>
            <a:ext cx="2112840" cy="25527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628520" y="6400800"/>
            <a:ext cx="3463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http://static.howstuffworks.com/gif/axis-conquers-philippines-12.jp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990720" y="3124080"/>
            <a:ext cx="2195280" cy="2781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860040" y="5943600"/>
            <a:ext cx="243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http://www.history.navy.mil/pics/spruancer.jp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Battle of Midway Strengths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nited Stat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3 carri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~25 support ship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33 carrier aircraf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27 land-based aircraf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mpire of Jap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4 carri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 battleship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~15 support ship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48 carrier aircraf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6 float plan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62120" y="3886200"/>
            <a:ext cx="6886440" cy="22096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545200" y="6172200"/>
            <a:ext cx="275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http://www.midway2009.com/YORKTOWN-sinking.jp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Battle of Midway Photo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648320" cy="37656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95720" y="5715000"/>
            <a:ext cx="435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http://realwarphotos.com/yahoo_site_admin/assets/images/B23902.268165905_std.jp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181480" y="1752480"/>
            <a:ext cx="3256200" cy="37339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442120" y="5715000"/>
            <a:ext cx="293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http://www.microworks.net/PACIFIC/battles/Midway3.jp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iblograph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okesbury, James L. "World War II."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World Book Student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World Book, 2009. Web. 4 Dec. 2009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Naval History &amp; Heritage Command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 N.p., n.d. Web. 8 Dec. 2009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     &lt;http://www.history.navy.mil/photos/events/wwii-pac/midway/midway.htm&gt;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Wikipedia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 N.p., n.d. Web. 8 Dec. 2009. &lt;http://en.wikipedia.org/wiki/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     Battle_of_Midway&gt;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5:01:48Z</dcterms:created>
  <dc:creator>30326</dc:creator>
  <dc:description/>
  <dc:language>en-US</dc:language>
  <cp:lastModifiedBy>30326</cp:lastModifiedBy>
  <dcterms:modified xsi:type="dcterms:W3CDTF">2009-12-18T12:32:50Z</dcterms:modified>
  <cp:revision>21</cp:revision>
  <dc:subject/>
  <dc:title>Battle of Midway</dc:title>
</cp:coreProperties>
</file>